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F82-B9E0-4834-A63A-5D3404ED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756-0021-47B5-A080-87E3A6D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1C5-CECE-4BD5-9816-E6CB52DE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DF0-7162-4CF6-AF07-6E6E18BD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F26-91E3-4AEF-A932-AB4E3B0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DFD-709D-481C-BBDD-6C1884E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64A-1C50-4548-A110-4A200F4A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370-7A81-4500-BBDE-B6370A58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905-037E-4663-95F4-719A03F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D3E-645A-4729-A0CF-DF707A7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375-A936-4AB0-AF9F-BFEB72BC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2C9-8530-4B17-8927-88C9380B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4805-1F35-48B1-B8EF-E410724E05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s of A Boo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ini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Gloss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Title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 of chapters in a 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title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gloss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e the book was prin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Publishing 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Due 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Copyright 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e- is the backbone of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lustrator- person who draws the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r- protects the pages of a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ssary- mini diction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Contents- list of chap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or- person who writes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pyright date- Date the book was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sher- Company that prints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x- Alphabetical list of chap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lustrations- another word for pict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who draws the pi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Illustra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ny that prints the 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phabetical list of su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tle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rites the boo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Illust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Publi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word fo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ictur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ob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illust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paragrap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2301840"/>
            <a:ext cx="2819160" cy="24433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3809880" y="5638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8" h="21600">
                <a:moveTo>
                  <a:pt x="18902" y="10800"/>
                </a:moveTo>
                <a:lnTo>
                  <a:pt x="32915" y="3794"/>
                </a:lnTo>
                <a:lnTo>
                  <a:pt x="32915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c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33640" y="3276720"/>
            <a:ext cx="3276720" cy="11714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38098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3794"/>
                </a:moveTo>
                <a:lnTo>
                  <a:pt x="25662" y="10800"/>
                </a:lnTo>
                <a:lnTo>
                  <a:pt x="11649" y="17806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bone of the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C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Sp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Auth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49:54Z</dcterms:created>
  <dc:creator>student</dc:creator>
  <dc:description/>
  <dc:language>en-US</dc:language>
  <cp:lastModifiedBy>student</cp:lastModifiedBy>
  <dcterms:modified xsi:type="dcterms:W3CDTF">2007-05-30T18:22:17Z</dcterms:modified>
  <cp:revision>2</cp:revision>
  <dc:subject/>
  <dc:title>Slide 1</dc:title>
</cp:coreProperties>
</file>